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D22-9508-48DD-B78F-A8E40CE5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605-02F6-44FC-81FA-8C13242D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F7B-ED40-4F59-B39B-4FB9C2BB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C62-E332-49D2-BA2C-BAD84E54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30B3-4F55-425E-893F-68DC7518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FDA6-3E03-4CB9-8015-D66CA05C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3D92-54FE-4B9B-ABF9-526AD80C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3EE1-912D-41A6-B91A-8058F5AA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FD37-EF18-427F-B398-C83513A5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397A-53B9-4AEB-A487-F3E7B818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E044-AC81-4B34-8FC9-178EF31B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875-463F-4BA3-90FF-EA18B5BF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7E13-6E7A-4355-830E-08F1EF27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7639-404F-4925-A760-4F0226DA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33B2-D868-4905-8E53-6E690D37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E4E9-B3A3-4A9C-B1E3-D04626B1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3AA4-95D2-4BDB-93E7-E4B96DB9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ED1-012E-4B99-8347-37D1313F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C9B-20AD-48B2-A350-5D3218C3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A11-DE41-402D-B594-62DC0D3F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63E-A049-4ED2-A3BE-C9A67A5C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B08-0B5D-44A1-90C0-0DBF94F4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DE6-E3D7-4252-BC32-4D3B744A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1C2-31C9-4EFC-B1A7-B7C7153C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C927-8D19-4D6A-A1CA-4B6555EB0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F3B3-729B-400B-AB81-BF8670E3A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lving Word 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ook for clue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re are some CLUE WORDS that will help you decide what to d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2540160" cy="281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ddition Clue Word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a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ubtraction Clue Word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any mo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any are lef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ffer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ultiplication Clue Word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im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duct o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ied b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y (dimension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ivision Clue Word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quotient of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vided b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alf for a frac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 much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pli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parate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ut up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haring something equall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et</a:t>
            </a:r>
            <a:r>
              <a:rPr b="0" lang="ja-JP" sz="6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 look at the example again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terday, Alex saw 6 birds in his backyard.  Today, he saw 3 times as many as yesterday.  How many birds did he see in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see any CLUE WORD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said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ree times” and “in all</a:t>
            </a: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en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0" lang="ja-JP" sz="6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 righ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5335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s 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imes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ll us that we should multiply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s 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all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ll us that we should AD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hat we UNDERSTAND the problem, and have a PLAN, we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 ready for the next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VE it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 number sentence using the information in the problem, and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68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68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ork it ou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3552840" cy="3748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ord Problems scare me!</a:t>
            </a:r>
            <a:r>
              <a:rPr b="0" lang="ja-JP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rcRect l="12073" t="25242" r="36218" b="5257"/>
          <a:stretch/>
        </p:blipFill>
        <p:spPr>
          <a:xfrm>
            <a:off x="5105520" y="1752480"/>
            <a:ext cx="2914560" cy="38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Give it a try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terday, Alex saw 6 birds in his backyard.  Today, he saw 3 times as many as yesterday.  How many birds did he see in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 number sentence and SOLVE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768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768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5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7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wrote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 + (3 x 6) = 24  then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0" lang="ja-JP" sz="6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 righ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p 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OK BACK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es your answer fit the questio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68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68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68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68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had to find out how many birds Alex saw in 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st we had to multiply 6 by 3 to tell us how many he saw today.  Then we added the number he saw yesterday to the number he saw to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r answer was </a:t>
            </a: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ex saw 24 birds in all.</a:t>
            </a: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t makes sense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 did i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are Word Problem Whizze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08952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768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768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1" dur="768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3" dur="768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ere are the steps once more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1 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UNDERSTAND the proble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2 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Get a PLA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3 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OLVE it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4 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LOOK BACK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y for some more practi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mathplayground.com/gsmbegin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mathplayground.com/mathhoops_Z1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more time?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mathplayground.com/wordproblems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see if you can pick out the clue word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27432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thatquiz.org/tq/practicetest?8ydrp8w15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ord Problems make me nervous!</a:t>
            </a:r>
            <a:r>
              <a:rPr b="0" lang="ja-JP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2768760" cy="43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ord Problems?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 just skip them!</a:t>
            </a:r>
            <a:r>
              <a:rPr b="0" lang="ja-JP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92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0" lang="ja-JP" sz="4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 Worry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95680" y="1828800"/>
            <a:ext cx="4267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th just 4 easy steps, you can become…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Word Problem Whiz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3320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DERSTAND the proble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are you trying to figure ou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re</a:t>
            </a: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 an exampl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68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68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terday, Alex saw 6 birds in his backyard.  Today, he saw 3 times as many as yesterday.  How many birds did he see in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is problem, what are you trying to figure ou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said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any birds did Alex see in all?</a:t>
            </a: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en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0" lang="ja-JP" sz="6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 righ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t a PLA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will you answer the questio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uld you ADD,SUBTRACT,  MULTIPLY, OR DIVID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2:51:05Z</dcterms:created>
  <dc:creator>Donnell</dc:creator>
  <dc:description/>
  <dc:language>en-US</dc:language>
  <cp:lastModifiedBy>kim.nelson Nelson</cp:lastModifiedBy>
  <dcterms:modified xsi:type="dcterms:W3CDTF">2011-11-19T13:25:30Z</dcterms:modified>
  <cp:revision>21</cp:revision>
  <dc:subject/>
  <dc:title>Solving Word Problems</dc:title>
</cp:coreProperties>
</file>